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323-E42E-4760-9370-B5D6F6DF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EDC-7042-4457-89F7-205CBBC9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B3C-9A67-4CB6-BF42-1ED3EC3A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D4A-D9F2-45E1-8567-D119579B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060-4C33-47B2-B8F8-9D447C5A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8AF-2875-4A5C-B6CB-A91A991A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802-9A82-4777-907E-F8D803B1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174-AC4B-4D3D-8496-73B354CF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24E-8426-458F-B243-C56AD881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FCA3-369C-42A2-9260-D3EA7CC0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2F7-4537-40AA-B789-C867FCA6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8967-4FBD-4AF4-8803-86A5DC8E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D063-DEC3-4A6C-9128-5791B7C16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ussianflag.jpg"/>
          <p:cNvPicPr/>
          <p:nvPr/>
        </p:nvPicPr>
        <p:blipFill>
          <a:blip r:embed="rId1"/>
          <a:stretch/>
        </p:blipFill>
        <p:spPr>
          <a:xfrm>
            <a:off x="152280" y="228600"/>
            <a:ext cx="861084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Lucia Buzzell, Sacha Ivanov, and Hunter Wein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 is both a democracy and federal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is divided between national; and state governments with a president who leads th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is a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no longer sets prices on food or other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prices make it harder to buy necessities, like food and clot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-68580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9" name="Picture 7" descr="russiancurrency.bmp"/>
          <p:cNvPicPr/>
          <p:nvPr/>
        </p:nvPicPr>
        <p:blipFill>
          <a:blip r:embed="rId1"/>
          <a:stretch/>
        </p:blipFill>
        <p:spPr>
          <a:xfrm>
            <a:off x="4443480" y="4575240"/>
            <a:ext cx="2514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humidcontinenta;.jpg"/>
          <p:cNvPicPr/>
          <p:nvPr/>
        </p:nvPicPr>
        <p:blipFill>
          <a:blip r:embed="rId1"/>
          <a:stretch/>
        </p:blipFill>
        <p:spPr>
          <a:xfrm>
            <a:off x="4724280" y="1371600"/>
            <a:ext cx="403884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teppe.jpg"/>
          <p:cNvPicPr/>
          <p:nvPr/>
        </p:nvPicPr>
        <p:blipFill>
          <a:blip r:embed="rId2"/>
          <a:stretch/>
        </p:blipFill>
        <p:spPr>
          <a:xfrm>
            <a:off x="4724280" y="4068720"/>
            <a:ext cx="4010040" cy="278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subarctoic.jpg"/>
          <p:cNvPicPr/>
          <p:nvPr/>
        </p:nvPicPr>
        <p:blipFill>
          <a:blip r:embed="rId3"/>
          <a:stretch/>
        </p:blipFill>
        <p:spPr>
          <a:xfrm>
            <a:off x="457200" y="4060800"/>
            <a:ext cx="3886200" cy="2797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tundra.jpg"/>
          <p:cNvPicPr/>
          <p:nvPr/>
        </p:nvPicPr>
        <p:blipFill>
          <a:blip r:embed="rId4"/>
          <a:stretch/>
        </p:blipFill>
        <p:spPr>
          <a:xfrm>
            <a:off x="457200" y="1333440"/>
            <a:ext cx="3962520" cy="2846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imate Typ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ndra-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ast treeless plain in high latitude climates in which only several of the top inches of ice thaws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arctic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 of weather characterized by bitter winters and cool su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6920" y="137124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umid Continental-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pattern of weather characterized by cold long snowy winters and hot short sum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teppe-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dry grassland often found on the edges of a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d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expectancy has f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ng number in both cancer and lung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causes harm to Russians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nhaler.jpg"/>
          <p:cNvPicPr/>
          <p:nvPr/>
        </p:nvPicPr>
        <p:blipFill>
          <a:blip r:embed="rId1"/>
          <a:stretch/>
        </p:blipFill>
        <p:spPr>
          <a:xfrm rot="727200">
            <a:off x="6019920" y="4038480"/>
            <a:ext cx="1971720" cy="2324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smokestack.jpg"/>
          <p:cNvPicPr/>
          <p:nvPr/>
        </p:nvPicPr>
        <p:blipFill>
          <a:blip r:embed="rId2"/>
          <a:stretch/>
        </p:blipFill>
        <p:spPr>
          <a:xfrm rot="21121200">
            <a:off x="1066320" y="4191120"/>
            <a:ext cx="28195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ns enjoy, hiking,camping, and mountain cli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ove soccer and t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soccer ball.jpg"/>
          <p:cNvPicPr/>
          <p:nvPr/>
        </p:nvPicPr>
        <p:blipFill>
          <a:blip r:embed="rId1"/>
          <a:stretch/>
        </p:blipFill>
        <p:spPr>
          <a:xfrm>
            <a:off x="609480" y="4876920"/>
            <a:ext cx="18385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population speaks Rus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amount of ethnic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35Z</dcterms:created>
  <dc:creator> </dc:creator>
  <dc:description/>
  <dc:language>en-US</dc:language>
  <cp:lastModifiedBy> </cp:lastModifiedBy>
  <dcterms:modified xsi:type="dcterms:W3CDTF">2010-12-15T01:12:50Z</dcterms:modified>
  <cp:revision>7</cp:revision>
  <dc:subject/>
  <dc:title>Present Day Russia</dc:title>
</cp:coreProperties>
</file>